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E4E09-ADAC-40F4-A8FC-852A51BAE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6CAD1-EA14-4421-ADD7-919AD1F41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EDA71-A226-4182-AF9A-753729A06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9704D-84C7-422B-AF1C-A1268B30B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FD44C-00D7-4924-80D8-BE0DE6E0F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CDCCE-287D-461C-84E0-4B7C4E04D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DAED6-7B23-4155-A477-373EA9BCD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8CFA9-3FBA-4AAC-8671-6EBC00E3C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B7802-A3BB-4B47-91EA-B761F7868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AA5EF-629C-48E3-BCF2-E2DEC5472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A8301-1D78-4AB1-869E-6319032D5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4C666-0A99-4E3A-9828-66C962D49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C50C-191E-49A7-ABB0-8070B9E72B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y Worker Effect (HWE):</a:t>
            </a:r>
            <a:br>
              <a:rPr sz="4000"/>
            </a:br>
            <a:r>
              <a:rPr b="0" lang="en-US" sz="4000" spc="-1" strike="noStrike">
                <a:solidFill>
                  <a:srgbClr val="000000"/>
                </a:solidFill>
                <a:latin typeface="Arial"/>
              </a:rPr>
              <a:t>William Ogle, 1885</a:t>
            </a:r>
            <a:endParaRPr b="0" lang="en-US" sz="4000" spc="-1" strike="noStrike">
              <a:solidFill>
                <a:srgbClr val="000000"/>
              </a:solidFill>
              <a:latin typeface="Arial"/>
            </a:endParaRPr>
          </a:p>
        </p:txBody>
      </p:sp>
      <p:sp>
        <p:nvSpPr>
          <p:cNvPr id="42"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two major difficulties in occupational mortality stud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ome occupations may be of necessity recruited from men of supernormal physical condition” </a:t>
            </a:r>
            <a:r>
              <a:rPr b="1" lang="en-US" sz="2400" spc="-1" strike="noStrike">
                <a:solidFill>
                  <a:srgbClr val="000000"/>
                </a:solidFill>
                <a:latin typeface="Arial"/>
              </a:rPr>
              <a:t>(selection into the workplace or cohor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occupations require a “considerable standard of muscular strength and vigor to be maintained” </a:t>
            </a:r>
            <a:r>
              <a:rPr b="1" lang="en-US" sz="2400" spc="-1" strike="noStrike">
                <a:solidFill>
                  <a:srgbClr val="000000"/>
                </a:solidFill>
                <a:latin typeface="Arial"/>
              </a:rPr>
              <a:t>(survivor effect, or selection out of the workplace or cohor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a:t>
            </a:r>
            <a:endParaRPr b="0" lang="en-US" sz="4000" spc="-1" strike="noStrike">
              <a:solidFill>
                <a:srgbClr val="000000"/>
              </a:solidFill>
              <a:latin typeface="Arial"/>
            </a:endParaRPr>
          </a:p>
        </p:txBody>
      </p:sp>
      <p:sp>
        <p:nvSpPr>
          <p:cNvPr id="60" name="PlaceHolder 2"/>
          <p:cNvSpPr>
            <a:spLocks noGrp="1"/>
          </p:cNvSpPr>
          <p:nvPr>
            <p:ph/>
          </p:nvPr>
        </p:nvSpPr>
        <p:spPr>
          <a:xfrm>
            <a:off x="152280" y="1600200"/>
            <a:ext cx="876312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ndustries may accept workers with social problems, unhealthy habits, or health proble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s to healthy survivor effect bia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ndustries will not hire such worker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s to healthy hire effect bia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actors affecting hiring practic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mployment ra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alence of pre-employment health exa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of other social “safety net” progra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quirements of the job</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election into subgroups of job tasks or exposures within the cohort is based on health status of the worker at time of hire, then internal comparisons may be biased (“internal healthy hire effect b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a:t>
            </a:r>
            <a:endParaRPr b="0" lang="en-US" sz="4000" spc="-1" strike="noStrike">
              <a:solidFill>
                <a:srgbClr val="000000"/>
              </a:solidFill>
              <a:latin typeface="Arial"/>
            </a:endParaRPr>
          </a:p>
        </p:txBody>
      </p:sp>
      <p:sp>
        <p:nvSpPr>
          <p:cNvPr id="62" name="PlaceHolder 2"/>
          <p:cNvSpPr>
            <a:spLocks noGrp="1"/>
          </p:cNvSpPr>
          <p:nvPr>
            <p:ph/>
          </p:nvPr>
        </p:nvSpPr>
        <p:spPr>
          <a:xfrm>
            <a:off x="152280" y="1600200"/>
            <a:ext cx="876312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s of healthy worker effect biases may vary b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e/ethnic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la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 at hi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 of employ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 of follow-u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occup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of mortality/morbid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y Worker Effect:</a:t>
            </a:r>
            <a:br>
              <a:rPr sz="4000"/>
            </a:br>
            <a:r>
              <a:rPr b="0" lang="en-US" sz="4000" spc="-1" strike="noStrike">
                <a:solidFill>
                  <a:srgbClr val="000000"/>
                </a:solidFill>
                <a:latin typeface="Arial"/>
              </a:rPr>
              <a:t>Impact on measures of effect</a:t>
            </a:r>
            <a:endParaRPr b="0" lang="en-US" sz="4000" spc="-1" strike="noStrike">
              <a:solidFill>
                <a:srgbClr val="000000"/>
              </a:solidFill>
              <a:latin typeface="Arial"/>
            </a:endParaRPr>
          </a:p>
        </p:txBody>
      </p:sp>
      <p:sp>
        <p:nvSpPr>
          <p:cNvPr id="64" name="PlaceHolder 2"/>
          <p:cNvSpPr>
            <a:spLocks noGrp="1"/>
          </p:cNvSpPr>
          <p:nvPr>
            <p:ph/>
          </p:nvPr>
        </p:nvSpPr>
        <p:spPr>
          <a:xfrm>
            <a:off x="304560" y="1752480"/>
            <a:ext cx="883908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bias) on effect measures is most striking for: </a:t>
            </a:r>
            <a:endParaRPr b="0" lang="en-US" sz="28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bidity measures</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monary function, respiratory symptom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behavioral symptom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place injuries</a:t>
            </a:r>
            <a:endParaRPr b="0" lang="en-US" sz="2000" spc="-1" strike="noStrike">
              <a:solidFill>
                <a:srgbClr val="000000"/>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ality measures</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auses of death combi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malignant</a:t>
            </a:r>
            <a:r>
              <a:rPr b="0" lang="en-US" sz="2000" spc="-1" strike="noStrike">
                <a:solidFill>
                  <a:srgbClr val="000000"/>
                </a:solidFill>
                <a:latin typeface="Arial"/>
              </a:rPr>
              <a:t> chronic conditions (e.g., heart disease)</a:t>
            </a:r>
            <a:endParaRPr b="0" lang="en-US" sz="2000" spc="-1" strike="noStrike">
              <a:solidFill>
                <a:srgbClr val="000000"/>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is less striking for cancer endpoints</a:t>
            </a:r>
            <a:endParaRPr b="0" lang="en-US" sz="28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743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rospective Cohort Study of polyvinyl chloride manufacturing workers, 1940-1974:</a:t>
            </a:r>
            <a:br>
              <a:rPr sz="3200"/>
            </a:br>
            <a:r>
              <a:rPr b="1" lang="en-US" sz="3200" spc="-1" strike="noStrike" u="sng">
                <a:solidFill>
                  <a:srgbClr val="000000"/>
                </a:solidFill>
                <a:uFillTx/>
                <a:latin typeface="Arial"/>
              </a:rPr>
              <a:t>Healthy Hire Effect</a:t>
            </a:r>
            <a:endParaRPr b="0" lang="en-US" sz="3200" spc="-1" strike="noStrike">
              <a:solidFill>
                <a:srgbClr val="000000"/>
              </a:solidFill>
              <a:latin typeface="Arial"/>
            </a:endParaRPr>
          </a:p>
        </p:txBody>
      </p:sp>
      <p:graphicFrame>
        <p:nvGraphicFramePr>
          <p:cNvPr id="66" name=""/>
          <p:cNvGraphicFramePr/>
          <p:nvPr/>
        </p:nvGraphicFramePr>
        <p:xfrm>
          <a:off x="76320" y="2057400"/>
          <a:ext cx="8915400" cy="4722840"/>
        </p:xfrm>
        <a:graphic>
          <a:graphicData uri="http://schemas.openxmlformats.org/drawingml/2006/table">
            <a:tbl>
              <a:tblPr/>
              <a:tblGrid>
                <a:gridCol w="2166840"/>
                <a:gridCol w="1122480"/>
                <a:gridCol w="1206360"/>
                <a:gridCol w="1523880"/>
                <a:gridCol w="1603440"/>
                <a:gridCol w="1292400"/>
              </a:tblGrid>
              <a:tr h="825480">
                <a:tc gridSpan="6">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Mortality Ratio (SMR) by cause of death and length of time (years) since entering the industry</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of Death</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9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4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perio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us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3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nc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8.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tory diseas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5</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iratory diseas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9</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rospective Cohort Study of polyvinyl chloride manufacturing workers, 1940-1974:</a:t>
            </a:r>
            <a:br>
              <a:rPr sz="3200"/>
            </a:br>
            <a:r>
              <a:rPr b="1" lang="en-US" sz="3200" spc="-1" strike="noStrike" u="sng">
                <a:solidFill>
                  <a:srgbClr val="000000"/>
                </a:solidFill>
                <a:uFillTx/>
                <a:latin typeface="Arial"/>
              </a:rPr>
              <a:t>Healthy Survivor Effect</a:t>
            </a:r>
            <a:endParaRPr b="0" lang="en-US" sz="3200" spc="-1" strike="noStrike">
              <a:solidFill>
                <a:srgbClr val="000000"/>
              </a:solidFill>
              <a:latin typeface="Arial"/>
            </a:endParaRPr>
          </a:p>
        </p:txBody>
      </p:sp>
      <p:graphicFrame>
        <p:nvGraphicFramePr>
          <p:cNvPr id="68" name=""/>
          <p:cNvGraphicFramePr/>
          <p:nvPr/>
        </p:nvGraphicFramePr>
        <p:xfrm>
          <a:off x="304920" y="1981080"/>
          <a:ext cx="8381880" cy="4660920"/>
        </p:xfrm>
        <a:graphic>
          <a:graphicData uri="http://schemas.openxmlformats.org/drawingml/2006/table">
            <a:tbl>
              <a:tblPr/>
              <a:tblGrid>
                <a:gridCol w="1690560"/>
                <a:gridCol w="1287360"/>
                <a:gridCol w="1136880"/>
                <a:gridCol w="914400"/>
                <a:gridCol w="1218960"/>
                <a:gridCol w="1219320"/>
                <a:gridCol w="914400"/>
              </a:tblGrid>
              <a:tr h="825480">
                <a:tc gridSpan="7">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nd “past” (i.e., terminated employment &lt;15 yrs from time of hire) employees alive 15 years after time of hir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 of de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mploye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d  Expected  SM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t employe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d  Expected  SM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9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anc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8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ng canc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9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latory disea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9.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iratory disea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6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9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eath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3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2.9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8.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y Worker Effect (HWE):</a:t>
            </a:r>
            <a:br>
              <a:rPr sz="4000"/>
            </a:br>
            <a:r>
              <a:rPr b="0" lang="en-US" sz="4000" spc="-1" strike="noStrike">
                <a:solidFill>
                  <a:srgbClr val="000000"/>
                </a:solidFill>
                <a:latin typeface="Arial"/>
              </a:rPr>
              <a:t>Impact on measures of effect</a:t>
            </a:r>
            <a:endParaRPr b="0" lang="en-US" sz="4000" spc="-1" strike="noStrike">
              <a:solidFill>
                <a:srgbClr val="000000"/>
              </a:solidFill>
              <a:latin typeface="Arial"/>
            </a:endParaRPr>
          </a:p>
        </p:txBody>
      </p:sp>
      <p:sp>
        <p:nvSpPr>
          <p:cNvPr id="70" name="PlaceHolder 2"/>
          <p:cNvSpPr>
            <a:spLocks noGrp="1"/>
          </p:cNvSpPr>
          <p:nvPr>
            <p:ph/>
          </p:nvPr>
        </p:nvSpPr>
        <p:spPr>
          <a:xfrm>
            <a:off x="304920" y="1828800"/>
            <a:ext cx="861048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HWE bias greater for nonmalignant morbidity/mort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ptoms usually accompany these condi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mptomatic individuals a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be hir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remain actively employ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likely to either leave the workplace or transfer to a job with lower exposu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nimizing Healthy Worker Effect Biases</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imizing Healthy Hire Effect Bi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comparisons internal to the cohor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ompare disease rates among different exposure categories within the cohort</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comparisons minimize this bias becaus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hort members passed through similar hiring proces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in the distribution of confounders (e.g., smoking status) within the cohort are much smaller than differences between the cohort and the general (source) population</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combining all causes of mortality</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74680"/>
            <a:ext cx="8686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nimizing Healthy Worker Effect Biase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imizing Time-Since-Hire Effect Bi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comparisons alone cannot solve the probl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ify by time-since-hir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cumulative exposure groups (e.g., high vs low cumulative exposure) among those with shorter time since hire</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cumulative exposure groups among those with longer time since hire</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ify by age (currrent or at hire) and work status (active/inactive) instead of time-since-hir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nimizing Healthy Worker Effect Biase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609480" y="1143000"/>
            <a:ext cx="82296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imizing Healthy Survivor Effect Bias</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difficult of the healthy worker effect biases to minimiz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internal comparisons and stratifying by time-since-hire are not sufficient to minimize this bia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rinciple: make comparisons among those who are similarly affected by the healthy survivor effect bia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152280"/>
            <a:ext cx="80010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sible strategies to Minimize Healthy Survivor Effect Bia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152280" y="1294920"/>
            <a:ext cx="876312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trict analysis</a:t>
            </a:r>
            <a:r>
              <a:rPr b="0" lang="en-US" sz="3200" spc="-1" strike="noStrike">
                <a:solidFill>
                  <a:srgbClr val="000000"/>
                </a:solidFill>
                <a:latin typeface="Arial"/>
              </a:rPr>
              <a:t> to those who survive and are followed up for at least 10-15 years since time of hi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isadvantages</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statistical power due to smaller numbers after restriction</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healthy survivor effect is minimal after 10-15 years, but there is no evidence that this is the case.</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y Worker Effect (HWE):</a:t>
            </a:r>
            <a:br>
              <a:rPr sz="4000"/>
            </a:br>
            <a:r>
              <a:rPr b="0" lang="en-US" sz="4000" spc="-1" strike="noStrike">
                <a:solidFill>
                  <a:srgbClr val="000000"/>
                </a:solidFill>
                <a:latin typeface="Arial"/>
              </a:rPr>
              <a:t>William Ogle, 1885</a:t>
            </a:r>
            <a:endParaRPr b="0" lang="en-US" sz="4000" spc="-1" strike="noStrike">
              <a:solidFill>
                <a:srgbClr val="000000"/>
              </a:solidFill>
              <a:latin typeface="Arial"/>
            </a:endParaRPr>
          </a:p>
        </p:txBody>
      </p:sp>
      <p:sp>
        <p:nvSpPr>
          <p:cNvPr id="44"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gle recognized that the bias from these two difficulties was in the same direction: </a:t>
            </a:r>
            <a:r>
              <a:rPr b="1" lang="en-US" sz="3200" spc="-1" strike="noStrike">
                <a:solidFill>
                  <a:srgbClr val="000000"/>
                </a:solidFill>
                <a:latin typeface="Arial"/>
              </a:rPr>
              <a:t>bias away from the null and towards lower than expected mortality and morbidity rat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15192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Possible strategies to Minimize Healthy Survivor Effect Bia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304920" y="1447560"/>
            <a:ext cx="853416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ify by employment status</a:t>
            </a:r>
            <a:r>
              <a:rPr b="0" lang="en-US" sz="2800" spc="-1" strike="noStrike">
                <a:solidFill>
                  <a:srgbClr val="000000"/>
                </a:solidFill>
                <a:latin typeface="Arial"/>
              </a:rPr>
              <a:t>: active vs inactiv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advantag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active” group has heterogeneous disease risks, since the “inactive” worker may be:</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d elsewhere</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bled</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ired</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ily unemployed or involuntarily unemployed</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 data to distinguish those who are “off-work” from those who are employed elsewher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ata are unavailable, stratify by current age (a proxy for retired vs other “inactiv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ify by time since transfer to deal with workers who transferred for health reasons</a:t>
            </a:r>
            <a:endParaRPr b="0" lang="en-US" sz="20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79250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sible strategies to Minimize Healthy Survivor Effect Bia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2" name="PlaceHolder 2"/>
          <p:cNvSpPr>
            <a:spLocks noGrp="1"/>
          </p:cNvSpPr>
          <p:nvPr>
            <p:ph/>
          </p:nvPr>
        </p:nvSpPr>
        <p:spPr>
          <a:xfrm>
            <a:off x="0" y="1447560"/>
            <a:ext cx="876312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ify by employment status</a:t>
            </a:r>
            <a:r>
              <a:rPr b="0" lang="en-US" sz="2800" spc="-1" strike="noStrike">
                <a:solidFill>
                  <a:srgbClr val="000000"/>
                </a:solidFill>
                <a:latin typeface="Arial"/>
              </a:rPr>
              <a:t>: active vs inactiv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advantag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oss-sectional studies</a:t>
            </a:r>
            <a:r>
              <a:rPr b="0" lang="en-US" sz="2000" spc="-1" strike="noStrike">
                <a:solidFill>
                  <a:srgbClr val="000000"/>
                </a:solidFill>
                <a:latin typeface="Arial"/>
              </a:rPr>
              <a:t> only include active workers, and there is no data on the health status of inactive workers</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prevalence data into incidence data:</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elf-reported year of first onset of symptoms to determine yearly incidence rate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incidence rates among the exposure groups for each year prior to the cross-sectional survey</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incidence rates one to two years prior to the survey date</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transforming prevalence data into incidence data by using self-reported year of onset to determine yearly incidence rates: persistent pain from repetitive motion among garment workers</a:t>
            </a:r>
            <a:endParaRPr b="0" lang="en-US" sz="2400" spc="-1" strike="noStrike">
              <a:solidFill>
                <a:srgbClr val="000000"/>
              </a:solidFill>
              <a:latin typeface="Arial"/>
            </a:endParaRPr>
          </a:p>
        </p:txBody>
      </p:sp>
      <p:pic>
        <p:nvPicPr>
          <p:cNvPr id="84" name="" descr=""/>
          <p:cNvPicPr/>
          <p:nvPr/>
        </p:nvPicPr>
        <p:blipFill>
          <a:blip r:embed="rId1"/>
          <a:stretch/>
        </p:blipFill>
        <p:spPr>
          <a:xfrm>
            <a:off x="1523880" y="1676520"/>
            <a:ext cx="5410440" cy="4964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79250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sible strategies to Minimize Healthy Survivor Effect Bia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6" name="PlaceHolder 2"/>
          <p:cNvSpPr>
            <a:spLocks noGrp="1"/>
          </p:cNvSpPr>
          <p:nvPr>
            <p:ph/>
          </p:nvPr>
        </p:nvSpPr>
        <p:spPr>
          <a:xfrm>
            <a:off x="304560" y="1447920"/>
            <a:ext cx="883908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g exposures:</a:t>
            </a:r>
            <a:r>
              <a:rPr b="0" lang="en-US" sz="2800" spc="-1" strike="noStrike">
                <a:solidFill>
                  <a:srgbClr val="000000"/>
                </a:solidFill>
                <a:latin typeface="Arial"/>
              </a:rPr>
              <a:t> ignores recent exposu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otivation</a:t>
            </a:r>
            <a:r>
              <a:rPr b="0" lang="en-US" sz="2400" spc="-1" strike="noStrike">
                <a:solidFill>
                  <a:srgbClr val="000000"/>
                </a:solidFill>
                <a:latin typeface="Arial"/>
              </a:rPr>
              <a:t>: Since only the healthier workers survived on the job to receive recent exposures, ignore the recent exposures to eliminate the relationship between exposure and job survival.</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same procedure as assuming a </a:t>
            </a:r>
            <a:r>
              <a:rPr b="1" lang="en-US" sz="2400" spc="-1" strike="noStrike">
                <a:solidFill>
                  <a:srgbClr val="000000"/>
                </a:solidFill>
                <a:latin typeface="Arial"/>
              </a:rPr>
              <a:t>latency period</a:t>
            </a:r>
            <a:r>
              <a:rPr b="0" lang="en-US" sz="2400" spc="-1" strike="noStrike">
                <a:solidFill>
                  <a:srgbClr val="000000"/>
                </a:solidFill>
                <a:latin typeface="Arial"/>
              </a:rPr>
              <a:t> for a disease, except that the motivation for defining a latency period has to do with the exposure-disease process, not the exposure-job survival relationship</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9250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sible strategies to Minimize Healthy Survivor Effect Bia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8" name="PlaceHolder 2"/>
          <p:cNvSpPr>
            <a:spLocks noGrp="1"/>
          </p:cNvSpPr>
          <p:nvPr>
            <p:ph/>
          </p:nvPr>
        </p:nvSpPr>
        <p:spPr>
          <a:xfrm>
            <a:off x="304920" y="1447920"/>
            <a:ext cx="861048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g exposu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hat the period in which the healthy survivor bias operates is shorter than the exposure lag time (or latency perio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ime “off work” is equivalent to time “on work” at zero exposure</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ical results indicate that this  approach works as well or better than stratifying on employment status in dealing with bias due to termination of employment for health reason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y Worker Effect (HWE)</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152280" y="1599840"/>
            <a:ext cx="8763120" cy="44197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ervasive problem in occupational mortality and morbidity studie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s to underestimates of, (or may totally obliterate), exposure-disease association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s to distortion of dose-response relationships</a:t>
            </a:r>
            <a:endParaRPr b="0" lang="en-US" sz="28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rinciple for minimizing HWE bias: </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exposure-disease comparisons among those  similarly affected by the bias</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 </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066320"/>
            <a:ext cx="8229600" cy="53341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Hire Effect</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selection of healthy individuals at time of hire so that their disease risks differ from the disease risks in the source (general) population</a:t>
            </a:r>
            <a:endParaRPr b="0" lang="en-US" sz="28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ing is dependent upon passing a pre-employment medical examinatio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selection of individual (able to apply for the job)</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 occurs when comparing disease rates between the worker cohort and the general populatio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is greatest during the initial period of follow-up and diminishes to some extent over time</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as</a:t>
            </a:r>
            <a:r>
              <a:rPr b="0" lang="en-US" sz="2400" spc="-1" strike="noStrike">
                <a:solidFill>
                  <a:srgbClr val="000000"/>
                </a:solidFill>
                <a:latin typeface="Arial"/>
              </a:rPr>
              <a:t>: lower than expected mortality/morbidity rates</a:t>
            </a:r>
            <a:endParaRPr b="0" lang="en-US" sz="2400" spc="-1" strike="noStrike">
              <a:solidFill>
                <a:srgbClr val="00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 </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Since-Hire Effec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ine in health with time (e.g., &gt;15 years) since hire (the effect of the initial selection in the hiring process wears off over time)</a:t>
            </a:r>
            <a:endParaRPr b="0" lang="en-US" sz="24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s occurs because lower cumulative exposure categories include more recent hires than higher cumulative exposure categories</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time-since-hire is correlated with increasing cumulative exposure</a:t>
            </a:r>
            <a:endParaRPr b="0" lang="en-US" sz="18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cumulative exposure categories appear to be associated with higher disease risks even when no exposure-disease relationship exists</a:t>
            </a: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s is away from null leading to an overestimate of the health effect at higher cumulative exposure levels</a:t>
            </a:r>
            <a:endParaRPr b="0" lang="en-US" sz="2000" spc="-1" strike="noStrike">
              <a:solidFill>
                <a:srgbClr val="000000"/>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049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 </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152280" y="1143000"/>
            <a:ext cx="868680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y Survivor Effect</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tinuing selection process in the workpla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al of healthier individuals in the active workforce (a selective retention of healthy workers in the workfor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ut of unhealthy (symptomatic) workers from workforce (health-related job mobility or termination)</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ate employmen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to jobs with lower exposures</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 </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152280" y="914400"/>
            <a:ext cx="8686800" cy="54864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Survivor Effec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viewed as a confounder:</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ing employment (or transfer to a less exposed job) is related to future exposure</a:t>
            </a:r>
            <a:endParaRPr b="0" lang="en-US" sz="2000" spc="-1" strike="noStrike">
              <a:solidFill>
                <a:srgbClr val="000000"/>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ing employment is an independent risk factor for disease</a:t>
            </a:r>
            <a:endParaRPr b="0" lang="en-US" sz="2000" spc="-1" strike="noStrike">
              <a:solidFill>
                <a:srgbClr val="000000"/>
              </a:solidFill>
              <a:latin typeface="Arial"/>
            </a:endParaRPr>
          </a:p>
          <a:p>
            <a:pPr lvl="3" marL="158400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cial effects to health of continued employment:</a:t>
            </a:r>
            <a:endParaRPr b="0" lang="en-US" sz="1800" spc="-1" strike="noStrike">
              <a:solidFill>
                <a:srgbClr val="000000"/>
              </a:solidFill>
              <a:latin typeface="Arial"/>
            </a:endParaRPr>
          </a:p>
          <a:p>
            <a:pPr lvl="4" marL="2036520" indent="-22608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access to health care</a:t>
            </a:r>
            <a:endParaRPr b="0" lang="en-US" sz="1800" spc="-1" strike="noStrike">
              <a:solidFill>
                <a:srgbClr val="000000"/>
              </a:solidFill>
              <a:latin typeface="Arial"/>
            </a:endParaRPr>
          </a:p>
          <a:p>
            <a:pPr lvl="4" marL="2036520" indent="-22608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standard of living</a:t>
            </a:r>
            <a:endParaRPr b="0" lang="en-US" sz="1800" spc="-1" strike="noStrike">
              <a:solidFill>
                <a:srgbClr val="000000"/>
              </a:solidFill>
              <a:latin typeface="Arial"/>
            </a:endParaRPr>
          </a:p>
          <a:p>
            <a:pPr lvl="4" marL="2036520" indent="-22608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exercise</a:t>
            </a:r>
            <a:endParaRPr b="0" lang="en-US" sz="1800" spc="-1" strike="noStrike">
              <a:solidFill>
                <a:srgbClr val="000000"/>
              </a:solidFill>
              <a:latin typeface="Arial"/>
            </a:endParaRPr>
          </a:p>
          <a:p>
            <a:pPr lvl="4" marL="2036520" indent="-22608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e disease screening at workplace</a:t>
            </a:r>
            <a:endParaRPr b="0" lang="en-US" sz="1800" spc="-1" strike="noStrike">
              <a:solidFill>
                <a:srgbClr val="000000"/>
              </a:solidFill>
              <a:latin typeface="Arial"/>
            </a:endParaRPr>
          </a:p>
          <a:p>
            <a:pPr lvl="4" marL="203652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transfer may be related to health and exposure status</a:t>
            </a:r>
            <a:endParaRPr b="0" lang="en-US" sz="2000" spc="-1" strike="noStrike">
              <a:solidFill>
                <a:srgbClr val="000000"/>
              </a:solidFill>
              <a:latin typeface="Arial"/>
            </a:endParaRPr>
          </a:p>
          <a:p>
            <a:pPr lvl="3" marL="158400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realize exposure is causing health problems and transfer to lower/no exposure jobs </a:t>
            </a:r>
            <a:endParaRPr b="0" lang="en-US" sz="1800" spc="-1" strike="noStrike">
              <a:solidFill>
                <a:srgbClr val="000000"/>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rces of Healthy Worker Effect</a:t>
            </a:r>
            <a:endParaRPr b="0" lang="en-US" sz="3600" spc="-1" strike="noStrike">
              <a:solidFill>
                <a:srgbClr val="000000"/>
              </a:solidFill>
              <a:latin typeface="Arial"/>
            </a:endParaRPr>
          </a:p>
        </p:txBody>
      </p:sp>
      <p:sp>
        <p:nvSpPr>
          <p:cNvPr id="56" name="PlaceHolder 2"/>
          <p:cNvSpPr>
            <a:spLocks noGrp="1"/>
          </p:cNvSpPr>
          <p:nvPr>
            <p:ph/>
          </p:nvPr>
        </p:nvSpPr>
        <p:spPr>
          <a:xfrm>
            <a:off x="152280" y="1142640"/>
            <a:ext cx="8763120" cy="5715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Survivor Effec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lso be viewed as a selection bia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n a </a:t>
            </a:r>
            <a:r>
              <a:rPr b="1" lang="en-US" sz="2000" spc="-1" strike="noStrike">
                <a:solidFill>
                  <a:srgbClr val="000000"/>
                </a:solidFill>
                <a:latin typeface="Arial"/>
              </a:rPr>
              <a:t>cross-sectional study</a:t>
            </a:r>
            <a:r>
              <a:rPr b="0" lang="en-US" sz="2000" spc="-1" strike="noStrike">
                <a:solidFill>
                  <a:srgbClr val="000000"/>
                </a:solidFill>
                <a:latin typeface="Arial"/>
              </a:rPr>
              <a:t> of a cohort:</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y includes only workers remaining in the workplace (“active workers”) – a survivor (healthier) population</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healthy workers leave (i.e., are selected out of) the workplace prior to the study and are therefore not included in the study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s: effects of exposure are underestimated</a:t>
            </a:r>
            <a:endParaRPr b="0" lang="en-US" sz="1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n</a:t>
            </a:r>
            <a:r>
              <a:rPr b="1" lang="en-US" sz="2000" spc="-1" strike="noStrike">
                <a:solidFill>
                  <a:srgbClr val="000000"/>
                </a:solidFill>
                <a:latin typeface="Arial"/>
              </a:rPr>
              <a:t> longitudinal</a:t>
            </a:r>
            <a:r>
              <a:rPr b="0" lang="en-US" sz="2000" spc="-1" strike="noStrike">
                <a:solidFill>
                  <a:srgbClr val="000000"/>
                </a:solidFill>
                <a:latin typeface="Arial"/>
              </a:rPr>
              <a:t> (prospective/retrospective) </a:t>
            </a:r>
            <a:r>
              <a:rPr b="1" lang="en-US" sz="2000" spc="-1" strike="noStrike">
                <a:solidFill>
                  <a:srgbClr val="000000"/>
                </a:solidFill>
                <a:latin typeface="Arial"/>
              </a:rPr>
              <a:t>cohort study</a:t>
            </a:r>
            <a:r>
              <a:rPr b="0" lang="en-US" sz="2000" spc="-1" strike="noStrike">
                <a:solidFill>
                  <a:srgbClr val="000000"/>
                </a:solidFill>
                <a:latin typeface="Arial"/>
              </a:rPr>
              <a:t>:</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ier workers remain in the workplace and therefore generally have higher cumulative exposures than less healthy workers who leave the workplace or transfer to less exposed job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s of increasing cumulative exposure are underestimated</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ias is not due to a loss to follow-up, since those who leave work are not usually lost to follow-up.</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rces of Healthy Worker Effect</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151920" y="1066320"/>
            <a:ext cx="8458200" cy="5334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Survivor Effect Bias</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lower than expected disease rat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re is no exposure-disease relationship, (and even after stratifying by time-since-hire), higher cumulative exposure appears protective of health:</a:t>
            </a:r>
            <a:endParaRPr b="0" lang="en-US" sz="24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with longer employment history will, on average, have higher cumulative exposures than workers with shorter employment history, </a:t>
            </a:r>
            <a:r>
              <a:rPr b="1" lang="en-US" sz="1800" spc="-1" strike="noStrike" u="sng">
                <a:solidFill>
                  <a:srgbClr val="000000"/>
                </a:solidFill>
                <a:uFillTx/>
                <a:latin typeface="Arial"/>
              </a:rPr>
              <a:t>and</a:t>
            </a:r>
            <a:endParaRPr b="0" lang="en-US" sz="18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workers with shorter employment history tend to be less healthy due to the healthy survivor effect, higher cumulative exposures can appear to have a protective effect </a:t>
            </a:r>
            <a:endParaRPr b="0" lang="en-US" sz="18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17:03:58Z</dcterms:created>
  <dc:creator>Frank Bove</dc:creator>
  <dc:description/>
  <dc:language>en-US</dc:language>
  <cp:lastModifiedBy>dkleinb</cp:lastModifiedBy>
  <dcterms:modified xsi:type="dcterms:W3CDTF">2003-12-01T23:04:45Z</dcterms:modified>
  <cp:revision>17</cp:revision>
  <dc:subject/>
  <dc:title>Healthy Worker Eff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60454587</vt:r8>
  </property>
  <property fmtid="{D5CDD505-2E9C-101B-9397-08002B2CF9AE}" pid="3" name="_AuthorEmail">
    <vt:lpwstr>fjb0@cdc.gov</vt:lpwstr>
  </property>
  <property fmtid="{D5CDD505-2E9C-101B-9397-08002B2CF9AE}" pid="4" name="_AuthorEmailDisplayName">
    <vt:lpwstr>Bove, Frank J.</vt:lpwstr>
  </property>
  <property fmtid="{D5CDD505-2E9C-101B-9397-08002B2CF9AE}" pid="5" name="_EmailSubject">
    <vt:lpwstr>slides for information bias and healthy worker effect</vt:lpwstr>
  </property>
  <property fmtid="{D5CDD505-2E9C-101B-9397-08002B2CF9AE}" pid="6" name="_ReviewingToolsShownOnce">
    <vt:lpwstr/>
  </property>
</Properties>
</file>